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8D41-DD14-42CF-85F8-69E8DE6E4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36D0-94EA-4159-A66C-0FF0EC2EA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938B-D800-456B-A9A9-FB4107293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D5B4-082B-4997-BB9A-01EB9A5C1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27CA-3D0A-48F2-95E1-8F491E817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E0F-D02D-4501-8FB0-98B335EF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EA1-CC6C-453C-9CF5-79D57780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1AA0-B0F4-49A7-96F4-29272BFE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C87D-60DE-4DEA-B415-1F814078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6809-7CE6-4A6B-A349-4D18DB65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E132-A1F0-49A2-A686-22E3D2E7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32CF-3547-4CCD-BE13-DC84C929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6815-B86F-4104-9084-6820E1FA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CF2A-9061-4BD2-9017-D56FBA44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460E-3153-4080-9BE9-0300909D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1083-36A9-4F22-81CE-BADD9C2A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6297-0F50-4DD6-A54C-1EB0E4B1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E76F-8350-4F78-869C-86ED01F7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5416-71EF-41A4-B491-AAF20231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9A1D-BDF1-4C0C-8A31-63A57496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5979-555A-43ED-BD15-E13EBC8D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0459-4612-48D5-9658-7F2A0B7F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E519C-86B7-4499-BB5F-A402971A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699B6-6426-492D-A337-BDC9ACF0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F99EC-5440-44A1-91BF-166B0FD0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00F9A-8993-4B94-90AF-59650651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AE350-0398-4009-B5BD-8E1DDFB6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7B36-9114-4937-87EA-5BCC5E70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B8937-3ECB-456C-9889-B27D51CA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D2121-3753-4B15-BAE9-D1ED3DD9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B5093-A296-479A-86E6-AA3EE602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CF3ED-CCCD-4E39-BCE9-00AF3572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9E1D9-47A4-48BE-8EC0-BCB2BC4F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AC860-ADA5-491A-AF0B-155A65C7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8106A-D732-4779-B55C-DDEE1804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2EC8F-D3D8-41A8-8BFB-935519DF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7115D-04BE-4444-A27E-01AC4693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5E786-17C3-4518-B067-0CA3CFC0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C9E-EEC8-445D-B438-E323B9A6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16414-1560-4F1D-BB4B-EC0E5CF3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42949-321D-4BC4-9CCB-E9CD2717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EA5C1-FBE3-4C17-8DA5-E0E0C4A7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35887-E6DB-4538-9484-CE034B4E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0C89B-2CBE-49AE-A255-6B39E526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01E26-6555-47CB-BEAC-472955B7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E6E3D-B180-4EDB-92D6-D1EBA077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91BEF-815E-4EB1-ACC6-F2790C0F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DB432-4814-4D37-AEEF-EA42E6F3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1B08C-06A5-4BB5-89BA-FC81D789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D522-E982-49B1-BBCE-6B8E41E5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A018B-755D-483F-B6CD-03C03049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1D94D-1EB1-4F39-8BB0-A6FE8993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D67AB-29D6-44CF-9A77-D7A52DFF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EE169-FB47-4E23-96D7-F301632D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73B57-C36F-4F4D-A921-20147743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74F8F-732B-4DC8-9E69-CCAAE787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B75CD-20AD-431A-908B-9BE93601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FF795-59D7-4D43-ACB7-E0E9A1CF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DB991-586D-4361-8846-EC75419E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8EE30-26F1-4DF3-80B9-DA801C7F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79F-0536-4484-B7C0-90648B63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345FF-DCA6-4655-85F2-2D38F61E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1323-867F-4BE1-8275-58265396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CEB-3030-4009-A675-711B2217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DD2-1B15-48FA-B82B-A0BD9102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26C8-9DDD-4470-A134-32BF0F54CC2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5E46-0B21-46E4-A7E0-BBFA6D6619D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B396-4D3C-4628-9884-041222CC1AB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0592-8811-488F-9EB5-8A6D1F4D07C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8E8F-BC2F-4224-9908-5A9F513F865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mbysoft.com/essays/userInterfaceDesign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User Interface Desig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2133720" y="6172200"/>
            <a:ext cx="5410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www.ambysoft.com/essays/userInterfaceDesign.htm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UI Tip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 consist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sy navig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e color sparingl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ign fiel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low for erro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uitive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void overcrowd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oup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UI Design Principl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ructure: the overall UI architect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mplicity: Make tasks easy to d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isibility: Keep all needed tasks visibl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eedback: Keep the user inform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olerance: allow undoing and redo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2" descr="\\thor\grads\mshouman\Desktop\Drawing1.jpg"/>
          <p:cNvPicPr/>
          <p:nvPr/>
        </p:nvPicPr>
        <p:blipFill>
          <a:blip r:embed="rId1"/>
          <a:stretch/>
        </p:blipFill>
        <p:spPr>
          <a:xfrm>
            <a:off x="1752480" y="380880"/>
            <a:ext cx="58676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20:11:14Z</dcterms:created>
  <dc:creator>mshouman</dc:creator>
  <dc:description/>
  <dc:language>en-US</dc:language>
  <cp:lastModifiedBy>mshouman</cp:lastModifiedBy>
  <dcterms:modified xsi:type="dcterms:W3CDTF">2009-04-06T20:20:36Z</dcterms:modified>
  <cp:revision>2</cp:revision>
  <dc:subject/>
  <dc:title>User Interface Design</dc:title>
</cp:coreProperties>
</file>